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52A-6A4C-47B1-9AF4-2272ED9D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C62-66D4-4982-8EBF-5B0E27F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FA7DA-DFC0-43F0-ADA5-4C95D69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5F63C-E6D0-4BE3-80E0-0A83102D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28E5F-67EA-4903-8B49-68C48A64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71E7C-DE19-4CAA-AC54-FF621DE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C86F5-F997-49E3-BA8A-0484C6B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AC54-9518-48E0-86DE-C37CD1B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E54D1-3DF3-4309-B944-88A95CB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23B46-FD20-4AAD-A78B-5D63BBFC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4FF12-3F1E-4CEF-B2CD-8FD35EE3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A15-7BCB-4B31-BFA9-55BC518C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C1C-E239-482D-A38E-D566A86E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815-61DE-426B-877C-07F79E07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A46-0F12-4619-AB8B-02B1911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D781-B689-4027-9A01-69D742B8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A531-B6B9-43E3-9203-FDE34CAE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454C-00DA-440E-8E0E-92DE340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0AE5-112B-4015-9C45-12E82372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927E-FC85-4F9B-BE7D-24159BF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F35-C641-40E2-8BBA-F95BADE4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11A8-29C3-4EB4-80E2-BC810A3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700F-D632-49DA-AF73-08478F1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1DD3-918B-4AE7-A601-8579B38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0C4D-DE4B-4823-8CFC-6ACF0B7E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2A8E-4B23-4186-A036-4AFBCE74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D88D-59AF-47F6-8D74-26ED3266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E374-83DD-46E5-9AD5-0184512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8724-1245-465A-8AB7-FFB2454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7974-22B6-4CF5-8EE2-CC06919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A9E7-90A5-4180-AA9D-79D86DDA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B73-8303-4665-AF5E-98C27FB2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17A9-87B1-46A1-BCAA-EAC2FC34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5DF7-D4F6-4B53-B179-5ED9A77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C61AD-C05E-4B10-933C-C5C8CBD2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CD0B-7FD7-40A5-B3CF-E6939D2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6A8F-7A30-4979-A15C-04F3104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C7A8-5B25-49D3-A0D8-7A904BDB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CAE0-EF34-4F0E-A52C-14959BD6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23FB-11BF-4452-B1CD-B6058912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4670-5266-4780-9764-D2CB6EB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2CA5-AF96-4C41-9A4B-9094F99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387-CAF2-4F14-942F-B63F0BE0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0821-12C8-46BC-AAB7-EC2200F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4BE5-4B5F-40E3-8454-F32D44C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98420-6636-4A3F-8C23-121BF26C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869E-A589-4A83-B87F-B0831A52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1241-E3C3-46A5-A6DA-185186DE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27DE-C39C-4F72-ABAC-44AA33D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D5AA-A2E6-4325-8C4B-86234C60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052D-3F8C-4FFD-9E96-58E26AC3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7195-0163-4297-B8C0-507590E4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F031-2F2E-464B-AC8A-00C9E9A2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257-76FF-4556-AB64-6F2DD43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A422-43E0-43A8-AE64-28A501A9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E8701-6612-4A3B-8FF8-5B175C70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1EE8-E546-4A10-9196-609468F4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53B9-A638-425F-995F-6C85940D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2525-410C-4F99-A6D8-27D467A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57657-8DDF-49EC-956D-4704E10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B2953-0B35-490C-B23F-DA73E4C5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62E7-87C2-4002-8FE0-FDC11304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BE72-DCB7-42B2-BF6E-9906B30B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FF6A4-3606-4587-B95C-1580F77D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A49-A8F0-4F7F-95DA-7D9F31E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3BBDD-ECA5-4228-8343-C6B47CF2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557F5-A76A-4762-8C9B-E0713D6F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04789-7776-4294-AA52-6BAC9AB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D593-DA6F-4B1F-B64F-1B00582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1C66-9ED9-44A6-9854-8407C36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ABA4-83F8-4E10-9949-9759B80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A9E6-320D-46B8-BDF6-9785DA5D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A1A36-73C9-41FD-9B2F-C43E6C7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4E64-A99B-4C45-BE39-E61A5BEC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22CA0-6EFD-47D8-8499-D00B3D8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6B0-4407-4AA1-821B-2B626E7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FC750-58E7-4EE7-860B-F33F1A2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ECE2-EC54-4885-8DC1-B8CEAE44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DED0C-F5BD-47E1-ACAA-4892053D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CD48-760E-4EC8-8FF5-27BA969A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9216-6198-4050-981D-394DBD26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4E890-ACFA-49C8-8AA9-1290AD7E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220A9-6D7D-4E76-AF16-EFA0C781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0E39B-ED23-491D-A2D5-F468DEC5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6668C-BD25-47B1-AEF6-96BCF9B3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12AC3-E447-4420-9DB7-96FA99A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718-73A6-42FD-B17A-3848C39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85075-C76E-4C15-9AFB-E5448A3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D8B20-9B6A-4BC7-9DBA-4BB90ED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C66AF-9142-4E3F-A2A8-3FEA7CA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EFF55-51DF-41FA-8E91-C3C6AD47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0B3D-A598-4787-A398-D09179EF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9B418-53A1-4442-B964-C466B1F5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6103D-2B47-4375-8AEF-74358CA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EE892-B633-4629-9A02-66518A7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097E-DFFB-4D25-A97F-A556CC5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8B18-DEF2-4A88-91C7-9C7DF94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170-13AB-47F7-8A6F-51F855BE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3F06-2505-4DA3-B404-A56D699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17800-7B04-4C7F-A090-0D1B394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D59F-D8DE-4849-AB6A-936E686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A8FD8-D4ED-4D1E-8125-BFDDC64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2E9CA-C701-43A5-B344-D560068E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7DD97-F10D-4F47-97B7-E8BAB4BD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8AD18-F0C8-4BB2-9D64-A41697DC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1398B-5B20-485C-975B-30D6068B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58CAA-D1AB-4514-B31C-3FC3FFD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2FCCB-33F5-44A9-807F-6B25378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910E-651E-49BC-83BA-4602475A6BE1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Picture 2" descr="K:\Logo BPK Trans.png"/>
          <p:cNvPicPr/>
          <p:nvPr/>
        </p:nvPicPr>
        <p:blipFill>
          <a:blip r:embed="rId6"/>
          <a:stretch/>
        </p:blipFill>
        <p:spPr>
          <a:xfrm>
            <a:off x="250920" y="260280"/>
            <a:ext cx="1260360" cy="14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2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K:\Logo BPK Trans.png"/>
          <p:cNvPicPr/>
          <p:nvPr/>
        </p:nvPicPr>
        <p:blipFill>
          <a:blip r:embed="rId4"/>
          <a:stretch/>
        </p:blipFill>
        <p:spPr>
          <a:xfrm>
            <a:off x="216000" y="228600"/>
            <a:ext cx="1260360" cy="1400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5BB0-278D-45F6-939B-393EC9F235CC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K:\Logo BPK Trans.png"/>
          <p:cNvPicPr/>
          <p:nvPr/>
        </p:nvPicPr>
        <p:blipFill>
          <a:blip r:embed="rId6"/>
          <a:stretch/>
        </p:blipFill>
        <p:spPr>
          <a:xfrm>
            <a:off x="250920" y="260280"/>
            <a:ext cx="1260360" cy="1400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890-37CB-4D7B-80A1-E837A2F1AB1F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8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2" descr="K:\Logo BPK Trans.png"/>
          <p:cNvPicPr/>
          <p:nvPr/>
        </p:nvPicPr>
        <p:blipFill>
          <a:blip r:embed="rId4"/>
          <a:stretch/>
        </p:blipFill>
        <p:spPr>
          <a:xfrm>
            <a:off x="108000" y="115920"/>
            <a:ext cx="1258920" cy="1400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4DDF-1A80-46D3-86B4-50B966719378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08B-A143-4C43-A83B-624B8F2C16E4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D24-5FF1-41AF-9FED-AB3D401B7A71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3FF-9172-4DA1-8E81-061A522C2237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BCA2-C386-4AB7-BCC0-FCA1B5F3D747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146-286E-40B9-B38E-164B0DCC60EF}" type="slidenum">
              <a:rPr b="0" lang="id-ID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907920" y="689040"/>
            <a:ext cx="8485200" cy="33652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123640" y="4797000"/>
            <a:ext cx="655956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443329"/>
                </a:solidFill>
                <a:latin typeface="Franklin Gothic Book"/>
              </a:rPr>
              <a:t>Presented  by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443329"/>
                </a:solidFill>
                <a:latin typeface="Franklin Gothic Book"/>
              </a:rPr>
              <a:t>Bahrullah Akbar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443329"/>
                </a:solidFill>
                <a:latin typeface="Franklin Gothic Book"/>
              </a:rPr>
              <a:t>The Board Member of The Audit Board o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id-ID" sz="2000" spc="-1" strike="noStrike">
                <a:solidFill>
                  <a:srgbClr val="443329"/>
                </a:solidFill>
                <a:latin typeface="Franklin Gothic Book"/>
              </a:rPr>
              <a:t>Republic of Indones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89488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oles of SAI (Supreme Audit Institution) in Eradicating Corrup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BPK’s Role in Reporting Criminal Act Indic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elationship Pattern between BPK and KPK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Obstacles to Relationship Quali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Expected Relationship Form and Quality between BPK and KPK in the Fut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942400" cy="1487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The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udit institution has 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uty and authority to assist corruption eradication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 effort (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result of 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The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7th INCOSAI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 in 1998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3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oles in preventi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on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and detecti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on of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corruptio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n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03600" indent="-478080">
              <a:spcBef>
                <a:spcPts val="601"/>
              </a:spcBef>
              <a:buClr>
                <a:srgbClr val="002060"/>
              </a:buClr>
              <a:buSzPct val="75000"/>
              <a:buFont typeface="Franklin Gothic 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o entirely improve transparency and accountabil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03600" indent="-478080">
              <a:spcBef>
                <a:spcPts val="601"/>
              </a:spcBef>
              <a:buClr>
                <a:srgbClr val="002060"/>
              </a:buClr>
              <a:buSzPct val="75000"/>
              <a:buFont typeface="Franklin Gothic 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o support an environment which confines the occurrence of corruption action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03600" indent="-478080">
              <a:spcBef>
                <a:spcPts val="601"/>
              </a:spcBef>
              <a:buClr>
                <a:srgbClr val="002060"/>
              </a:buClr>
              <a:buSzPct val="75000"/>
              <a:buFont typeface="Franklin Gothic 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o support a good administration clim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Choosing if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an audit institution more emphasizes on prevention or detection, which is supported with an investigation, is affected by mandate scope and cost effectiveness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676440" y="-79200"/>
            <a:ext cx="8474040" cy="1487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rticle 14 of Law Number 15 Year 2004 states “if it is found a criminal 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act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lement in the audit, BPK shall as soon as possible time report such matter to an authorized institution pursuant to legislation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W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en BPK audit result is not reported or delayed, its member may be taken into the court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Chart 1" descr=""/>
          <p:cNvPicPr/>
          <p:nvPr/>
        </p:nvPicPr>
        <p:blipFill>
          <a:blip r:embed="rId5"/>
          <a:stretch/>
        </p:blipFill>
        <p:spPr>
          <a:xfrm>
            <a:off x="4500720" y="4076640"/>
            <a:ext cx="4240080" cy="25322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1547640" y="4508640"/>
            <a:ext cx="25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The Number of Cases Released to Law Enforcement Apparat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894880" cy="168912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4"/>
          <p:cNvGrpSpPr/>
          <p:nvPr/>
        </p:nvGrpSpPr>
        <p:grpSpPr>
          <a:xfrm>
            <a:off x="1908000" y="2349360"/>
            <a:ext cx="5977080" cy="3240360"/>
            <a:chOff x="1908000" y="2349360"/>
            <a:chExt cx="5977080" cy="3240360"/>
          </a:xfrm>
        </p:grpSpPr>
        <p:sp>
          <p:nvSpPr>
            <p:cNvPr id="415" name="AutoShape 5"/>
            <p:cNvSpPr/>
            <p:nvPr/>
          </p:nvSpPr>
          <p:spPr>
            <a:xfrm>
              <a:off x="1908000" y="2349360"/>
              <a:ext cx="5977080" cy="324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6"/>
            <p:cNvSpPr/>
            <p:nvPr/>
          </p:nvSpPr>
          <p:spPr>
            <a:xfrm>
              <a:off x="3638160" y="4840200"/>
              <a:ext cx="2404080" cy="587880"/>
            </a:xfrm>
            <a:prstGeom prst="leftRightArrow">
              <a:avLst>
                <a:gd name="adj1" fmla="val 50000"/>
                <a:gd name="adj2" fmla="val 8140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Calibri"/>
                </a:rPr>
                <a:t>Coord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7"/>
            <p:cNvSpPr/>
            <p:nvPr/>
          </p:nvSpPr>
          <p:spPr>
            <a:xfrm>
              <a:off x="3587040" y="2441520"/>
              <a:ext cx="2477520" cy="587880"/>
            </a:xfrm>
            <a:prstGeom prst="leftRightArrow">
              <a:avLst>
                <a:gd name="adj1" fmla="val 50000"/>
                <a:gd name="adj2" fmla="val 838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Calibri"/>
                </a:rPr>
                <a:t>Information Ex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8"/>
            <p:cNvSpPr/>
            <p:nvPr/>
          </p:nvSpPr>
          <p:spPr>
            <a:xfrm>
              <a:off x="3587040" y="3029400"/>
              <a:ext cx="2477520" cy="587880"/>
            </a:xfrm>
            <a:prstGeom prst="leftRightArrow">
              <a:avLst>
                <a:gd name="adj1" fmla="val 50000"/>
                <a:gd name="adj2" fmla="val 838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Calibri"/>
                </a:rPr>
                <a:t>Personnel As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9"/>
            <p:cNvSpPr/>
            <p:nvPr/>
          </p:nvSpPr>
          <p:spPr>
            <a:xfrm>
              <a:off x="3587040" y="3640680"/>
              <a:ext cx="2477520" cy="587880"/>
            </a:xfrm>
            <a:prstGeom prst="leftRightArrow">
              <a:avLst>
                <a:gd name="adj1" fmla="val 50000"/>
                <a:gd name="adj2" fmla="val 838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Calibri"/>
                </a:rPr>
                <a:t>Education and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0"/>
            <p:cNvSpPr/>
            <p:nvPr/>
          </p:nvSpPr>
          <p:spPr>
            <a:xfrm>
              <a:off x="3638160" y="4251960"/>
              <a:ext cx="2404080" cy="587880"/>
            </a:xfrm>
            <a:prstGeom prst="leftRightArrow">
              <a:avLst>
                <a:gd name="adj1" fmla="val 50000"/>
                <a:gd name="adj2" fmla="val 8140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4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2206080" y="3328560"/>
              <a:ext cx="1077840" cy="1107720"/>
            </a:xfrm>
            <a:prstGeom prst="ellipse">
              <a:avLst/>
            </a:prstGeom>
            <a:solidFill>
              <a:srgbClr val="9bbb59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4e612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000" spc="-1" strike="noStrike">
                  <a:solidFill>
                    <a:srgbClr val="000000"/>
                  </a:solidFill>
                  <a:latin typeface="Calibri"/>
                </a:rPr>
                <a:t>BP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6503760" y="3328560"/>
              <a:ext cx="1077840" cy="1107720"/>
            </a:xfrm>
            <a:prstGeom prst="ellipse">
              <a:avLst/>
            </a:prstGeom>
            <a:solidFill>
              <a:srgbClr val="f79646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2000" spc="-1" strike="noStrike">
                  <a:solidFill>
                    <a:srgbClr val="000000"/>
                  </a:solidFill>
                  <a:latin typeface="Calibri"/>
                </a:rPr>
                <a:t>KP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676440" y="-55440"/>
            <a:ext cx="8437320" cy="16891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988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The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imited quality and quantity of human resourc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found communication technical protocol and coordination between BPK and KPK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e number and variation of BPK audit objects every yea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ack perception of entities and the public against audit ro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e policies which tend to take </a:t>
            </a:r>
            <a:r>
              <a:rPr b="0" lang="id-ID" sz="2400" spc="-1" strike="noStrike">
                <a:solidFill>
                  <a:srgbClr val="4e3b30"/>
                </a:solidFill>
                <a:latin typeface="Franklin Gothic Book"/>
              </a:rPr>
              <a:t>an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ction than to prev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521920" cy="1408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e3b30"/>
                </a:solidFill>
                <a:latin typeface="Franklin Gothic Book"/>
              </a:rPr>
              <a:t>The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adiness of BPK to actively participate in handling corrup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presence of clear and planned agenda enables BPK and KPK to give easiness to each others in implementing their dut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ilding a collective forum for supporting the effort of all parties to actively participate in handling corrup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11:25Z</dcterms:created>
  <dc:creator>yudi.ramdan</dc:creator>
  <dc:description/>
  <dc:language>en-US</dc:language>
  <cp:lastModifiedBy>asus</cp:lastModifiedBy>
  <dcterms:modified xsi:type="dcterms:W3CDTF">2012-03-05T09:24:03Z</dcterms:modified>
  <cp:revision>50</cp:revision>
  <dc:subject/>
  <dc:title>THE IMPORTANCE OF THE RELATIONSHIP BETWEEN THE AUDIT BOARD OF THE REPUBLIC OF INDONESIA (BPK) AND THE INDONESIAN PUBLIC ACCOUNT COMMITTEE (BAKN)</dc:title>
</cp:coreProperties>
</file>